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C3B6-337A-45FD-B18B-D467CAE3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0976-245A-4C3B-8619-0EC9E5AF7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23C1-D556-4725-A2EF-77BF3A08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D10B-B591-4A41-AF7B-AD7595B3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98E2-FF0F-43DC-B830-800EEF6D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09E-76B4-455E-A8F9-17323F43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D3AA-A144-4425-9813-17EC09A7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EF97-AC96-48A2-972C-5DCB1928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F6D-9199-42AF-A49F-391ED9F3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F93-170D-428E-BD09-D459748E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90C1-4FF8-4D25-B48D-05D29820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E0A-82F1-41E8-9C63-D288C8FD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7C5E-A185-42D4-BE93-1FD39173B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844640"/>
            <a:ext cx="41148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66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orgiana Pocol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66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916360" y="2924280"/>
            <a:ext cx="28382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ls a XI-a D</a:t>
            </a:r>
            <a:endParaRPr b="0" i="1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9640" y="1047600"/>
            <a:ext cx="7920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M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ă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 numesc Pocol Georgiana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ş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i sunt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î</a:t>
            </a:r>
            <a:r>
              <a:rPr b="0" i="1" lang="en-US" sz="2000" spc="-1" strike="noStrike">
                <a:solidFill>
                  <a:srgbClr val="660066"/>
                </a:solidFill>
                <a:latin typeface="Arial"/>
              </a:rPr>
              <a:t>n clasa a XI-a D.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Am ales acest profil deoarece îmi plac limbile străine dar si literatura român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Pe de altă parte, îmi plac artele, in special muzica si pictu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Mi-am propus ca în acest an să învăt mai mult, şi sa ma axez in special pe materiile care sunt importante în domeniul pe care vreau să îl ur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i="1" lang="ro-RO" sz="2000" spc="-1" strike="noStrike">
                <a:solidFill>
                  <a:srgbClr val="660066"/>
                </a:solidFill>
                <a:latin typeface="Arial"/>
              </a:rPr>
              <a:t>Sunt ambiţioasă si sper că voi realiza ceea ce mi-am prop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04:28:30Z</dcterms:created>
  <dc:creator> </dc:creator>
  <dc:description/>
  <dc:language>en-US</dc:language>
  <cp:lastModifiedBy> </cp:lastModifiedBy>
  <dcterms:modified xsi:type="dcterms:W3CDTF">2011-09-22T04:42:06Z</dcterms:modified>
  <cp:revision>2</cp:revision>
  <dc:subject/>
  <dc:title>Diapozitivul 1</dc:title>
</cp:coreProperties>
</file>